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43E-ACFC-40B6-B3AF-1DBEF84C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9A4-92FC-46EB-AE83-4C56DBC5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6F0-C0EF-45E5-9709-A985415B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3D8-5468-4CEB-875C-5EA48AA8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EEF-3B0F-4C07-86D9-112B7FA5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FF7-BF5C-4E88-8B8E-C0B334C0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414F-4CDB-4C30-9E35-DB7BC15B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F68-81B7-423B-B2A8-9F7C6E34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BD8-DE20-4F08-94C9-19D0916E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5B3-3844-47BC-8296-C2B9C438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F06-54B6-4C41-AD8A-DE4A874A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387-77DF-4DC3-BCC1-6C0D5E61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91F3-12A9-4F2A-BF1A-C8A28D600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o find the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- Find the mass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- Find the volume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- Divide                Density =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Mas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05520" y="2743200"/>
            <a:ext cx="3124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its for density g/cm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r g/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6705720" cy="243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19810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Formul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20574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 = mass   V= volume  D =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 = D x V                            V = M / D                     D = M / 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ab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find the densities of oil an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up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ted Cylinder, balance, oil, an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at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657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2438280"/>
          <a:ext cx="8839440" cy="4538880"/>
        </p:xfrm>
        <a:graphic>
          <a:graphicData uri="http://schemas.openxmlformats.org/drawingml/2006/table">
            <a:tbl>
              <a:tblPr/>
              <a:tblGrid>
                <a:gridCol w="3886200"/>
                <a:gridCol w="3505320"/>
                <a:gridCol w="1447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bject &amp; Grad Cylind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uated Cylinder, 10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uated Cylinder, 50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il – 8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il – 25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il – 50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 – 8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 – 25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 – 50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the mass of the graduated cylinders in the data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out 8mL of water (record the exact amount in your data ta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mass of the water (and the graduated cylind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waste can be poured down the d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steps 2-3 for 25mL and 50mL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steps 2-3 for 8mL, 25mL, and 50mL of oi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should be poured into the waste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masses of the water and oil for each volume by subtracting the mass of the graduated cylinder.  Record this in the results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density for each volume of water and the oil and record the densities in the results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the densities of the water; record in the results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the densities of the oil; record in the results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percent error for the water if the known value is 1.00g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685800"/>
          <a:ext cx="9144000" cy="2560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 of sub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sity of sub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Dens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0" y="3352680"/>
          <a:ext cx="9143640" cy="2743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5640"/>
                <a:gridCol w="2286000"/>
              </a:tblGrid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 of sub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sity of sub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Dens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04920" y="6172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error for water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ost Lab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a graph for you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vs.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vs.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es oil float on wa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e density of an unknown substance, would you be able to identity the substance?  Why of 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n experiment to determine the density of an oddly shaped object.  Be sure to include the following:  hypothesis, detailed procedure, and sample data table.  Your procedure should include several data points, therefore, also identify the independent and dependent variables and the constants in your experi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3:36:09Z</dcterms:created>
  <dc:creator>1</dc:creator>
  <dc:description/>
  <dc:language>en-US</dc:language>
  <cp:lastModifiedBy>labelo</cp:lastModifiedBy>
  <dcterms:modified xsi:type="dcterms:W3CDTF">2011-10-05T17:48:48Z</dcterms:modified>
  <cp:revision>21</cp:revision>
  <dc:subject/>
  <dc:title>PowerPoint Presentation</dc:title>
</cp:coreProperties>
</file>